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DE92-B110-4ED1-9B25-4236D31E2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B56E-2268-4EF0-A671-B542BB02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A40D-05E6-404E-918A-58BC926D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958E-6E8B-4000-8688-8183CDAF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98B7-A781-4F80-846D-40BE9B5CF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B7FE-5F8A-4824-BD7D-78FA3F32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C061-BC31-4DC2-8B0B-5F33E736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2F20F-7600-4BF9-A0F3-5BCDCD35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985F-AB55-4DFC-9BAB-637C1E62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FC34-23A3-460E-9F93-4E855C20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F900-9A0C-4660-950A-3239904C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C200-A8AA-432A-A057-DCEFED92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95D8-4FCD-43CB-B5E7-D9C5C274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9800-0100-47F7-9DE0-CB50B60A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D88FC-2EC9-4795-B8EC-A29E2230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0B19-755F-4205-8F64-2D2AC404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0FED-D169-4821-A4B5-4D50FFD2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4BF6-FC6F-4980-92E7-0447903C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6B6A-28A4-45F5-9679-DDA8D015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9F95-2C74-4BDF-8EA8-4B4DC5C3F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B029-AA22-48C6-8822-EA6DEE99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21C-BBB9-4772-902F-9AACAB0A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306-85B2-48FD-9458-559455D5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59F0-628A-45F3-9B7D-D8277F57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6A77-E9FB-4E3D-8065-FE93A9282E7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26E7-2425-4E72-B2CB-E7BA542D419B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270828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221000"/>
            <a:ext cx="9144000" cy="263700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6094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6094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项选择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12193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219320"/>
            <a:ext cx="72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                                 的定义域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A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057400" y="1295280"/>
                <a:ext cx="237636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826920" y="1844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  [0,2]               B.  [-5,5]           C.  [-1,1]           D. [0,+  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885080" y="1989000"/>
                <a:ext cx="266760" cy="1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00000" y="270828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187280" y="2637000"/>
                <a:ext cx="1727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2987640" y="2565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                       答案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564000" y="2637000"/>
                <a:ext cx="11430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684360" y="306864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          不表示同一个函数的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B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403280" y="3141720"/>
                <a:ext cx="673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556000" y="3141720"/>
                <a:ext cx="6350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826920" y="3716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403280" y="3789360"/>
                <a:ext cx="108108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2411280" y="37162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843280" y="3716280"/>
                <a:ext cx="15843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4643280" y="3789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148360" y="3789360"/>
                <a:ext cx="124452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6227640" y="3789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6732720" y="3645000"/>
                <a:ext cx="22208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/>
                        <m:e>
                          <m:r>
                            <m:t xml:space="preserve">x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x</m:t>
                          </m:r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684360" y="4653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258920" y="4508640"/>
                <a:ext cx="1511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270036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3203640" y="4365720"/>
                <a:ext cx="21603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5364000" y="465300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5940360" y="4581360"/>
                <a:ext cx="187164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781200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6400800" y="5029200"/>
                <a:ext cx="1800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1332000" y="59500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124000" y="5734080"/>
                <a:ext cx="24256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/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4500720" y="595008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           不相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5003640" y="6021360"/>
                <a:ext cx="6350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>
            <a:off x="2843280" y="18900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习题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48360" y="1268280"/>
            <a:ext cx="28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6732720" y="105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828720" y="260280"/>
            <a:ext cx="8280360" cy="1179000"/>
            <a:chOff x="828720" y="260280"/>
            <a:chExt cx="8280360" cy="1179000"/>
          </a:xfrm>
        </p:grpSpPr>
        <p:sp>
          <p:nvSpPr>
            <p:cNvPr id="329" name=""/>
            <p:cNvSpPr/>
            <p:nvPr/>
          </p:nvSpPr>
          <p:spPr>
            <a:xfrm>
              <a:off x="6372000" y="285840"/>
              <a:ext cx="17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0" name=""/>
            <p:cNvGrpSpPr/>
            <p:nvPr/>
          </p:nvGrpSpPr>
          <p:grpSpPr>
            <a:xfrm>
              <a:off x="828720" y="260280"/>
              <a:ext cx="8280360" cy="1179000"/>
              <a:chOff x="828720" y="260280"/>
              <a:chExt cx="8280360" cy="1179000"/>
            </a:xfrm>
          </p:grpSpPr>
          <p:sp>
            <p:nvSpPr>
              <p:cNvPr id="331" name=""/>
              <p:cNvSpPr/>
              <p:nvPr/>
            </p:nvSpPr>
            <p:spPr>
              <a:xfrm>
                <a:off x="828720" y="260280"/>
                <a:ext cx="828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(3)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不是同一函数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,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定义域不同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2" name=""/>
                  <p:cNvSpPr txBox="1"/>
                  <p:nvPr/>
                </p:nvSpPr>
                <p:spPr>
                  <a:xfrm>
                    <a:off x="6734160" y="331560"/>
                    <a:ext cx="603360" cy="357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3" name=""/>
              <p:cNvSpPr/>
              <p:nvPr/>
            </p:nvSpPr>
            <p:spPr>
              <a:xfrm>
                <a:off x="828720" y="979560"/>
                <a:ext cx="662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定义域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4" name=""/>
                  <p:cNvSpPr txBox="1"/>
                  <p:nvPr/>
                </p:nvSpPr>
                <p:spPr>
                  <a:xfrm>
                    <a:off x="2484360" y="1052280"/>
                    <a:ext cx="720720" cy="347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5" name=""/>
              <p:cNvSpPr/>
              <p:nvPr/>
            </p:nvSpPr>
            <p:spPr>
              <a:xfrm>
                <a:off x="3276720" y="979560"/>
                <a:ext cx="4751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6" name=""/>
                  <p:cNvSpPr txBox="1"/>
                  <p:nvPr/>
                </p:nvSpPr>
                <p:spPr>
                  <a:xfrm>
                    <a:off x="3565440" y="979560"/>
                    <a:ext cx="741600" cy="4554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7" name=""/>
              <p:cNvSpPr/>
              <p:nvPr/>
            </p:nvSpPr>
            <p:spPr>
              <a:xfrm>
                <a:off x="4357800" y="979560"/>
                <a:ext cx="4392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的定义域为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8" name=""/>
                  <p:cNvSpPr txBox="1"/>
                  <p:nvPr/>
                </p:nvSpPr>
                <p:spPr>
                  <a:xfrm>
                    <a:off x="6013440" y="1052280"/>
                    <a:ext cx="682560" cy="3416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9" name=""/>
              <p:cNvSpPr/>
              <p:nvPr/>
            </p:nvSpPr>
            <p:spPr>
              <a:xfrm>
                <a:off x="4789440" y="260280"/>
                <a:ext cx="266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这两个函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0" name=""/>
          <p:cNvSpPr/>
          <p:nvPr/>
        </p:nvSpPr>
        <p:spPr>
          <a:xfrm>
            <a:off x="1774440" y="1915200"/>
            <a:ext cx="450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列函数中哪些是偶函数，哪些是奇函数，哪些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893960" y="2492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非奇非偶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835280" y="2997360"/>
                <a:ext cx="1081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111600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2997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5003640" y="2781360"/>
                <a:ext cx="194472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763640" y="3789360"/>
                <a:ext cx="2160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1042920" y="3860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11640" y="378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932360" y="3789360"/>
                <a:ext cx="1944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1042920" y="4724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1763640" y="4797360"/>
                <a:ext cx="1871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7" name=""/>
          <p:cNvSpPr/>
          <p:nvPr/>
        </p:nvSpPr>
        <p:spPr>
          <a:xfrm>
            <a:off x="4211640" y="465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4932360" y="4653000"/>
                <a:ext cx="24480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68360" y="18900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讨论函数的奇偶性必须先判断函数的定义域是否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7280" y="765000"/>
            <a:ext cx="67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称，如果不对称，一定不是奇函数或者偶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258920" y="148428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对称的话，我们继续判断它的奇偶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421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1419120" y="2421000"/>
                <a:ext cx="903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2484360" y="242100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域对称。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4788000" y="2421000"/>
                <a:ext cx="11523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6012000" y="242100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6443640" y="2421000"/>
                <a:ext cx="230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>
            <a:off x="1332000" y="3141720"/>
            <a:ext cx="45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为奇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95280" y="3933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1403280" y="3933720"/>
                <a:ext cx="9032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2411280" y="3933720"/>
            <a:ext cx="51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域对称。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/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199280" y="38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1403280" y="4508640"/>
                <a:ext cx="30974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859280" y="3645000"/>
                <a:ext cx="208908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9" name=""/>
          <p:cNvSpPr/>
          <p:nvPr/>
        </p:nvSpPr>
        <p:spPr>
          <a:xfrm>
            <a:off x="4572000" y="465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为偶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5280" y="55897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531800" y="5589720"/>
                <a:ext cx="9352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2556000" y="558972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定义域对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900000" y="6093000"/>
                <a:ext cx="657072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4788000" y="5589720"/>
                <a:ext cx="2520720" cy="49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5" name=""/>
          <p:cNvSpPr/>
          <p:nvPr/>
        </p:nvSpPr>
        <p:spPr>
          <a:xfrm>
            <a:off x="7524720" y="6093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偶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611280" y="765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476360" y="76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1709640" y="3886200"/>
                <a:ext cx="29052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2916360" y="836640"/>
                <a:ext cx="7603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0" name=""/>
          <p:cNvSpPr/>
          <p:nvPr/>
        </p:nvSpPr>
        <p:spPr>
          <a:xfrm>
            <a:off x="3780000" y="83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093080" y="76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1116000" y="1341360"/>
                <a:ext cx="69850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4500720" y="765000"/>
                <a:ext cx="240660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684360" y="2349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19280" y="2276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3059280" y="2276640"/>
                <a:ext cx="7603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7" name=""/>
          <p:cNvSpPr/>
          <p:nvPr/>
        </p:nvSpPr>
        <p:spPr>
          <a:xfrm>
            <a:off x="3851280" y="2349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877080" y="220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1187280" y="2924280"/>
                <a:ext cx="540072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4389480" y="2227320"/>
                <a:ext cx="23810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1187280" y="170028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奇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88000" y="2852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奇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11280" y="3860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692360" y="3789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3059280" y="3789360"/>
                <a:ext cx="7603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3780000" y="3789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164360" y="364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1187280" y="4292640"/>
                <a:ext cx="69836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4356000" y="3716280"/>
                <a:ext cx="28321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>
            <a:off x="1187280" y="4941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为奇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3029040" y="2592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确定下列函数的定义域并作出函数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547640" y="907920"/>
                <a:ext cx="2087640" cy="125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755640" y="1268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2195640" y="2205000"/>
                <a:ext cx="863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826920" y="2205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16000" y="501336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2340000" y="3212640"/>
            <a:ext cx="0" cy="273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4427640" y="5013360"/>
                <a:ext cx="2602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2050920" y="3213000"/>
                <a:ext cx="2430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2124000" y="5013360"/>
                <a:ext cx="20484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>
            <a:off x="2340000" y="4292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79640" y="4076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26920" y="573408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411280" y="55166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95640" y="4149720"/>
            <a:ext cx="215640" cy="21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195640" y="5589720"/>
            <a:ext cx="215640" cy="215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268360" y="4941720"/>
            <a:ext cx="144720" cy="144720"/>
          </a:xfrm>
          <a:prstGeom prst="ellipse">
            <a:avLst/>
          </a:prstGeom>
          <a:solidFill>
            <a:srgbClr val="0000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274840" y="411120"/>
                <a:ext cx="36608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2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1187280" y="692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2762280" y="1603440"/>
                <a:ext cx="12999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1619280" y="4941720"/>
            <a:ext cx="51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3348000" y="2491920"/>
            <a:ext cx="0" cy="345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6659640" y="5084640"/>
                <a:ext cx="2602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6" name=""/>
              <p:cNvSpPr txBox="1"/>
              <p:nvPr/>
            </p:nvSpPr>
            <p:spPr>
              <a:xfrm>
                <a:off x="2987640" y="2349360"/>
                <a:ext cx="3128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7" name=""/>
          <p:cNvSpPr/>
          <p:nvPr/>
        </p:nvSpPr>
        <p:spPr>
          <a:xfrm>
            <a:off x="291636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99564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471636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34800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4800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348000" y="3716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36400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601200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348000" y="306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780000" y="501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00720" y="501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148360" y="501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796000" y="5013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348000" y="558972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843280" y="54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916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916360" y="342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916360" y="285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4716360" y="2924280"/>
            <a:ext cx="129708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6012000" y="292428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40360" y="285264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348000" y="3716280"/>
            <a:ext cx="1368360" cy="122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3644280"/>
            <a:ext cx="14436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43280" y="4869000"/>
            <a:ext cx="1447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716360" y="422100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2195640" y="404640"/>
                <a:ext cx="360036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1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rad>
                            </m:e>
                            <m:e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|</m:t>
                              </m:r>
                              <m:r>
                                <m:t xml:space="preserve">x</m:t>
                              </m:r>
                              <m:r>
                                <m:t xml:space="preserve">|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1116000" y="83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979640" y="472428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3708360" y="2708280"/>
            <a:ext cx="0" cy="31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227640" y="5229360"/>
                <a:ext cx="3286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3348000" y="2852640"/>
                <a:ext cx="31284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"/>
          <p:cNvSpPr/>
          <p:nvPr/>
        </p:nvSpPr>
        <p:spPr>
          <a:xfrm>
            <a:off x="334800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8764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627280" y="414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284720" y="4724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70836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27672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87640" y="4005360"/>
            <a:ext cx="1451160" cy="730080"/>
          </a:xfrm>
          <a:custGeom>
            <a:avLst/>
            <a:gdLst/>
            <a:ahLst/>
            <a:rect l="l" t="t" r="r" b="b"/>
            <a:pathLst>
              <a:path w="914" h="460">
                <a:moveTo>
                  <a:pt x="0" y="460"/>
                </a:moveTo>
                <a:cubicBezTo>
                  <a:pt x="15" y="392"/>
                  <a:pt x="30" y="324"/>
                  <a:pt x="45" y="279"/>
                </a:cubicBezTo>
                <a:cubicBezTo>
                  <a:pt x="60" y="234"/>
                  <a:pt x="76" y="211"/>
                  <a:pt x="91" y="188"/>
                </a:cubicBezTo>
                <a:cubicBezTo>
                  <a:pt x="106" y="165"/>
                  <a:pt x="121" y="158"/>
                  <a:pt x="136" y="143"/>
                </a:cubicBezTo>
                <a:cubicBezTo>
                  <a:pt x="151" y="128"/>
                  <a:pt x="159" y="112"/>
                  <a:pt x="182" y="97"/>
                </a:cubicBezTo>
                <a:cubicBezTo>
                  <a:pt x="205" y="82"/>
                  <a:pt x="242" y="67"/>
                  <a:pt x="272" y="52"/>
                </a:cubicBezTo>
                <a:cubicBezTo>
                  <a:pt x="302" y="37"/>
                  <a:pt x="325" y="14"/>
                  <a:pt x="363" y="7"/>
                </a:cubicBezTo>
                <a:cubicBezTo>
                  <a:pt x="401" y="0"/>
                  <a:pt x="454" y="0"/>
                  <a:pt x="499" y="7"/>
                </a:cubicBezTo>
                <a:cubicBezTo>
                  <a:pt x="544" y="14"/>
                  <a:pt x="597" y="37"/>
                  <a:pt x="635" y="52"/>
                </a:cubicBezTo>
                <a:cubicBezTo>
                  <a:pt x="673" y="67"/>
                  <a:pt x="696" y="74"/>
                  <a:pt x="726" y="97"/>
                </a:cubicBezTo>
                <a:cubicBezTo>
                  <a:pt x="756" y="120"/>
                  <a:pt x="794" y="158"/>
                  <a:pt x="817" y="188"/>
                </a:cubicBezTo>
                <a:cubicBezTo>
                  <a:pt x="840" y="218"/>
                  <a:pt x="847" y="249"/>
                  <a:pt x="862" y="279"/>
                </a:cubicBezTo>
                <a:cubicBezTo>
                  <a:pt x="877" y="309"/>
                  <a:pt x="900" y="340"/>
                  <a:pt x="907" y="370"/>
                </a:cubicBezTo>
                <a:cubicBezTo>
                  <a:pt x="914" y="400"/>
                  <a:pt x="907" y="453"/>
                  <a:pt x="907" y="4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70836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276720" y="5157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5219640" y="465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65300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979640" y="4149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4427640" y="4005000"/>
            <a:ext cx="792000" cy="71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219640" y="400500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2268360" y="5877000"/>
            <a:ext cx="71928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68360" y="4724280"/>
            <a:ext cx="0" cy="17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87640" y="472428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148360" y="393372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195640" y="6381720"/>
            <a:ext cx="142920" cy="14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003640" y="4724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916360" y="5805360"/>
            <a:ext cx="14436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"/>
              <p:cNvSpPr txBox="1"/>
              <p:nvPr/>
            </p:nvSpPr>
            <p:spPr>
              <a:xfrm>
                <a:off x="2987640" y="1844640"/>
                <a:ext cx="14400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,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1" name=""/>
              <p:cNvSpPr txBox="1"/>
              <p:nvPr/>
            </p:nvSpPr>
            <p:spPr>
              <a:xfrm>
                <a:off x="5148360" y="47628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2" name=""/>
              <p:cNvSpPr txBox="1"/>
              <p:nvPr/>
            </p:nvSpPr>
            <p:spPr>
              <a:xfrm>
                <a:off x="2987640" y="1916280"/>
                <a:ext cx="3175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3" name=""/>
              <p:cNvSpPr txBox="1"/>
              <p:nvPr/>
            </p:nvSpPr>
            <p:spPr>
              <a:xfrm>
                <a:off x="4643280" y="1844640"/>
                <a:ext cx="3495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4" name=""/>
          <p:cNvSpPr/>
          <p:nvPr/>
        </p:nvSpPr>
        <p:spPr>
          <a:xfrm>
            <a:off x="2738520" y="403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某商店销售一种商品，当销售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025280" y="112428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元；若超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件时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522240" y="1843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与销售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03640" y="177228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之间的关系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4000" y="40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523040" y="1052640"/>
            <a:ext cx="28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超过部分按原价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1844640"/>
            <a:ext cx="23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试给出销售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780160" y="404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超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件时，单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9640" y="2565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476360" y="2565360"/>
                <a:ext cx="5478480" cy="110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1619280" y="3933720"/>
                <a:ext cx="490392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ax</m:t>
                              </m:r>
                              <m:r>
                                <m:t xml:space="preserve">+</m:t>
                              </m:r>
                              <m:r>
                                <m:t xml:space="preserve">3</m:t>
                              </m:r>
                              <m:r>
                                <m:t xml:space="preserve">a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t xml:space="preserve">0</m:t>
                          </m:r>
                        </m:e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g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0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1763640" y="1197000"/>
                <a:ext cx="1224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5122800" y="878040"/>
                <a:ext cx="12034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1763640" y="2276640"/>
                <a:ext cx="13669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5292720" y="2205000"/>
                <a:ext cx="129528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826920" y="38736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下列函数的单调增减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180880" y="11242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44000" y="224208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326680" y="22039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11600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11280" y="3357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332000" y="328464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定义域上单调递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258920" y="3860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定义域上单调递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258920" y="436572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8" name=""/>
              <p:cNvSpPr txBox="1"/>
              <p:nvPr/>
            </p:nvSpPr>
            <p:spPr>
              <a:xfrm>
                <a:off x="1835280" y="4365720"/>
                <a:ext cx="1104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9" name=""/>
          <p:cNvSpPr/>
          <p:nvPr/>
        </p:nvSpPr>
        <p:spPr>
          <a:xfrm>
            <a:off x="2916360" y="42926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在定义域上单调递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"/>
              <p:cNvSpPr txBox="1"/>
              <p:nvPr/>
            </p:nvSpPr>
            <p:spPr>
              <a:xfrm>
                <a:off x="6372360" y="4292640"/>
                <a:ext cx="863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1" name=""/>
          <p:cNvSpPr/>
          <p:nvPr/>
        </p:nvSpPr>
        <p:spPr>
          <a:xfrm>
            <a:off x="7236000" y="429264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单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9236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递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258920" y="544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908000" y="5445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5" name=""/>
              <p:cNvSpPr txBox="1"/>
              <p:nvPr/>
            </p:nvSpPr>
            <p:spPr>
              <a:xfrm>
                <a:off x="2411280" y="5516640"/>
                <a:ext cx="7923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6" name=""/>
          <p:cNvSpPr/>
          <p:nvPr/>
        </p:nvSpPr>
        <p:spPr>
          <a:xfrm>
            <a:off x="3132000" y="5445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单调递增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0,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651640" y="5516640"/>
                <a:ext cx="360360" cy="29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8" name=""/>
          <p:cNvSpPr/>
          <p:nvPr/>
        </p:nvSpPr>
        <p:spPr>
          <a:xfrm>
            <a:off x="6012000" y="5445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单调递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1469880" y="259200"/>
            <a:ext cx="37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下列函数的反函数并指出其定义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1619280" y="1125360"/>
                <a:ext cx="13683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2" name=""/>
          <p:cNvSpPr/>
          <p:nvPr/>
        </p:nvSpPr>
        <p:spPr>
          <a:xfrm>
            <a:off x="755640" y="1125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5003640" y="1052640"/>
                <a:ext cx="187344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4067280" y="10526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26920" y="198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1692360" y="1916280"/>
                <a:ext cx="1297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5003640" y="1628640"/>
                <a:ext cx="129564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1" name=""/>
          <p:cNvSpPr/>
          <p:nvPr/>
        </p:nvSpPr>
        <p:spPr>
          <a:xfrm>
            <a:off x="414036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8360" y="2781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76360" y="2781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3700440" y="3357720"/>
                <a:ext cx="80028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5" name=""/>
              <p:cNvSpPr txBox="1"/>
              <p:nvPr/>
            </p:nvSpPr>
            <p:spPr>
              <a:xfrm>
                <a:off x="2411280" y="2637000"/>
                <a:ext cx="2664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46" name=""/>
          <p:cNvGrpSpPr/>
          <p:nvPr/>
        </p:nvGrpSpPr>
        <p:grpSpPr>
          <a:xfrm>
            <a:off x="5292720" y="2852640"/>
            <a:ext cx="3240000" cy="459720"/>
            <a:chOff x="5292720" y="2852640"/>
            <a:chExt cx="3240000" cy="459720"/>
          </a:xfrm>
        </p:grpSpPr>
        <p:sp>
          <p:nvSpPr>
            <p:cNvPr id="547" name=""/>
            <p:cNvSpPr/>
            <p:nvPr/>
          </p:nvSpPr>
          <p:spPr>
            <a:xfrm>
              <a:off x="5292720" y="285264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交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8" name=""/>
                <p:cNvSpPr txBox="1"/>
                <p:nvPr/>
              </p:nvSpPr>
              <p:spPr>
                <a:xfrm>
                  <a:off x="6012000" y="2924280"/>
                  <a:ext cx="26028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49" name=""/>
            <p:cNvSpPr/>
            <p:nvPr/>
          </p:nvSpPr>
          <p:spPr>
            <a:xfrm>
              <a:off x="6300720" y="2852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0" name=""/>
                <p:cNvSpPr txBox="1"/>
                <p:nvPr/>
              </p:nvSpPr>
              <p:spPr>
                <a:xfrm>
                  <a:off x="6732720" y="2924280"/>
                  <a:ext cx="31248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1" name=""/>
            <p:cNvSpPr/>
            <p:nvPr/>
          </p:nvSpPr>
          <p:spPr>
            <a:xfrm>
              <a:off x="6948360" y="285264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得反函数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3635280" y="3429000"/>
                <a:ext cx="122580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3" name=""/>
          <p:cNvSpPr/>
          <p:nvPr/>
        </p:nvSpPr>
        <p:spPr>
          <a:xfrm>
            <a:off x="1476360" y="443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"/>
              <p:cNvSpPr txBox="1"/>
              <p:nvPr/>
            </p:nvSpPr>
            <p:spPr>
              <a:xfrm>
                <a:off x="2124000" y="4437000"/>
                <a:ext cx="3888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"/>
              <p:cNvSpPr txBox="1"/>
              <p:nvPr/>
            </p:nvSpPr>
            <p:spPr>
              <a:xfrm>
                <a:off x="6012000" y="2924280"/>
                <a:ext cx="26028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6" name=""/>
          <p:cNvGrpSpPr/>
          <p:nvPr/>
        </p:nvGrpSpPr>
        <p:grpSpPr>
          <a:xfrm>
            <a:off x="5904000" y="4437000"/>
            <a:ext cx="3240000" cy="459720"/>
            <a:chOff x="5904000" y="4437000"/>
            <a:chExt cx="3240000" cy="459720"/>
          </a:xfrm>
        </p:grpSpPr>
        <p:sp>
          <p:nvSpPr>
            <p:cNvPr id="557" name=""/>
            <p:cNvSpPr/>
            <p:nvPr/>
          </p:nvSpPr>
          <p:spPr>
            <a:xfrm>
              <a:off x="5904000" y="443700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交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8" name=""/>
                <p:cNvSpPr txBox="1"/>
                <p:nvPr/>
              </p:nvSpPr>
              <p:spPr>
                <a:xfrm>
                  <a:off x="6623280" y="4508640"/>
                  <a:ext cx="26028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59" name=""/>
            <p:cNvSpPr/>
            <p:nvPr/>
          </p:nvSpPr>
          <p:spPr>
            <a:xfrm>
              <a:off x="6912000" y="443700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0" name=""/>
                <p:cNvSpPr txBox="1"/>
                <p:nvPr/>
              </p:nvSpPr>
              <p:spPr>
                <a:xfrm>
                  <a:off x="7344000" y="4508640"/>
                  <a:ext cx="31248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61" name=""/>
            <p:cNvSpPr/>
            <p:nvPr/>
          </p:nvSpPr>
          <p:spPr>
            <a:xfrm>
              <a:off x="7559640" y="44370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得反函数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3492360" y="5013360"/>
                <a:ext cx="21592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3" name=""/>
              <p:cNvSpPr txBox="1"/>
              <p:nvPr/>
            </p:nvSpPr>
            <p:spPr>
              <a:xfrm>
                <a:off x="5435640" y="3645000"/>
                <a:ext cx="720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4" name=""/>
              <p:cNvSpPr txBox="1"/>
              <p:nvPr/>
            </p:nvSpPr>
            <p:spPr>
              <a:xfrm>
                <a:off x="6156360" y="5084640"/>
                <a:ext cx="792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1763640" y="620640"/>
                <a:ext cx="3205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1042920" y="620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076720" y="620640"/>
            <a:ext cx="3240000" cy="459720"/>
            <a:chOff x="5076720" y="620640"/>
            <a:chExt cx="3240000" cy="459720"/>
          </a:xfrm>
        </p:grpSpPr>
        <p:sp>
          <p:nvSpPr>
            <p:cNvPr id="568" name=""/>
            <p:cNvSpPr/>
            <p:nvPr/>
          </p:nvSpPr>
          <p:spPr>
            <a:xfrm>
              <a:off x="5076720" y="62064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交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9" name=""/>
                <p:cNvSpPr txBox="1"/>
                <p:nvPr/>
              </p:nvSpPr>
              <p:spPr>
                <a:xfrm>
                  <a:off x="5796000" y="692280"/>
                  <a:ext cx="26028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0" name=""/>
            <p:cNvSpPr/>
            <p:nvPr/>
          </p:nvSpPr>
          <p:spPr>
            <a:xfrm>
              <a:off x="6084720" y="62064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1" name=""/>
                <p:cNvSpPr txBox="1"/>
                <p:nvPr/>
              </p:nvSpPr>
              <p:spPr>
                <a:xfrm>
                  <a:off x="6516720" y="692280"/>
                  <a:ext cx="31248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2" name=""/>
            <p:cNvSpPr/>
            <p:nvPr/>
          </p:nvSpPr>
          <p:spPr>
            <a:xfrm>
              <a:off x="6732360" y="62064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得反函数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3276720" y="1268280"/>
                <a:ext cx="194292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>
            <a:off x="900000" y="2708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1835280" y="2565360"/>
                <a:ext cx="2520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y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576" name=""/>
          <p:cNvGrpSpPr/>
          <p:nvPr/>
        </p:nvGrpSpPr>
        <p:grpSpPr>
          <a:xfrm>
            <a:off x="4572000" y="2708280"/>
            <a:ext cx="3240000" cy="459720"/>
            <a:chOff x="4572000" y="2708280"/>
            <a:chExt cx="3240000" cy="459720"/>
          </a:xfrm>
        </p:grpSpPr>
        <p:sp>
          <p:nvSpPr>
            <p:cNvPr id="577" name=""/>
            <p:cNvSpPr/>
            <p:nvPr/>
          </p:nvSpPr>
          <p:spPr>
            <a:xfrm>
              <a:off x="4572000" y="2708280"/>
              <a:ext cx="244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交换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8" name=""/>
                <p:cNvSpPr txBox="1"/>
                <p:nvPr/>
              </p:nvSpPr>
              <p:spPr>
                <a:xfrm>
                  <a:off x="5291280" y="2779920"/>
                  <a:ext cx="260280" cy="2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79" name=""/>
            <p:cNvSpPr/>
            <p:nvPr/>
          </p:nvSpPr>
          <p:spPr>
            <a:xfrm>
              <a:off x="5580000" y="2708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0" name=""/>
                <p:cNvSpPr txBox="1"/>
                <p:nvPr/>
              </p:nvSpPr>
              <p:spPr>
                <a:xfrm>
                  <a:off x="6012000" y="2779920"/>
                  <a:ext cx="312480" cy="36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81" name=""/>
            <p:cNvSpPr/>
            <p:nvPr/>
          </p:nvSpPr>
          <p:spPr>
            <a:xfrm>
              <a:off x="6227640" y="27082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得反函数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348000" y="3357720"/>
                <a:ext cx="12240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5580000" y="1341360"/>
                <a:ext cx="13683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5651640" y="3573360"/>
                <a:ext cx="71892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9144000" cy="292428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476280"/>
            <a:ext cx="87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函数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                        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6084720" y="549360"/>
                <a:ext cx="14400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"/>
          <p:cNvSpPr/>
          <p:nvPr/>
        </p:nvSpPr>
        <p:spPr>
          <a:xfrm>
            <a:off x="468360" y="1197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119700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2133720"/>
            <a:ext cx="9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40360" y="2133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932360" y="1052640"/>
                <a:ext cx="79200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1547640" y="1916280"/>
                <a:ext cx="792360" cy="59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03640" y="1989000"/>
                <a:ext cx="6480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971640" y="321300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代入                       得                                  得答案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763640" y="3141720"/>
                <a:ext cx="158436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24360" y="3141720"/>
                <a:ext cx="2232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95640" y="404640"/>
                <a:ext cx="1511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19280" y="1197000"/>
                <a:ext cx="649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050920" y="476280"/>
                <a:ext cx="12956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611280" y="40464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列函数能否构成复合函数？若能构成复合函数，则写出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并求其定义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484360" y="836640"/>
                <a:ext cx="1368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1692360" y="1268280"/>
                <a:ext cx="216036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u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0" name=""/>
          <p:cNvSpPr/>
          <p:nvPr/>
        </p:nvSpPr>
        <p:spPr>
          <a:xfrm>
            <a:off x="900000" y="1268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580000" y="1341360"/>
                <a:ext cx="2376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>
            <a:off x="4716360" y="134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"/>
              <p:cNvSpPr txBox="1"/>
              <p:nvPr/>
            </p:nvSpPr>
            <p:spPr>
              <a:xfrm>
                <a:off x="1692360" y="1916280"/>
                <a:ext cx="230328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u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6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7" name=""/>
              <p:cNvSpPr txBox="1"/>
              <p:nvPr/>
            </p:nvSpPr>
            <p:spPr>
              <a:xfrm>
                <a:off x="5508720" y="1844640"/>
                <a:ext cx="2736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u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8" name=""/>
          <p:cNvSpPr/>
          <p:nvPr/>
        </p:nvSpPr>
        <p:spPr>
          <a:xfrm>
            <a:off x="900000" y="1989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788000" y="19162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55640" y="2708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19280" y="2781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11280" y="2852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"/>
              <p:cNvSpPr txBox="1"/>
              <p:nvPr/>
            </p:nvSpPr>
            <p:spPr>
              <a:xfrm>
                <a:off x="3203640" y="2781360"/>
                <a:ext cx="48956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u</m:t>
                        </m:r>
                      </m:e>
                    </m:rad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把u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代入得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4" name=""/>
          <p:cNvSpPr/>
          <p:nvPr/>
        </p:nvSpPr>
        <p:spPr>
          <a:xfrm>
            <a:off x="1187280" y="350028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5" name=""/>
              <p:cNvSpPr txBox="1"/>
              <p:nvPr/>
            </p:nvSpPr>
            <p:spPr>
              <a:xfrm>
                <a:off x="2556000" y="3429000"/>
                <a:ext cx="129528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6" name=""/>
          <p:cNvSpPr/>
          <p:nvPr/>
        </p:nvSpPr>
        <p:spPr>
          <a:xfrm>
            <a:off x="1619280" y="4292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340000" y="4292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916360" y="4221000"/>
                <a:ext cx="51498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把u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代入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u得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9" name=""/>
          <p:cNvSpPr/>
          <p:nvPr/>
        </p:nvSpPr>
        <p:spPr>
          <a:xfrm>
            <a:off x="1116000" y="4941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2627280" y="5013360"/>
                <a:ext cx="136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1" name=""/>
          <p:cNvSpPr/>
          <p:nvPr/>
        </p:nvSpPr>
        <p:spPr>
          <a:xfrm>
            <a:off x="1835280" y="558972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00360" y="5589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276720" y="558972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3708360" y="5516640"/>
                <a:ext cx="3888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代入</m:t>
                    </m:r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u</m:t>
                        </m:r>
                      </m:e>
                    </m:rad>
                    <m:r>
                      <m:t xml:space="preserve">得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16" name=""/>
          <p:cNvSpPr/>
          <p:nvPr/>
        </p:nvSpPr>
        <p:spPr>
          <a:xfrm>
            <a:off x="1187280" y="62373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556000" y="6237360"/>
                <a:ext cx="720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"/>
          <p:cNvGrpSpPr/>
          <p:nvPr/>
        </p:nvGrpSpPr>
        <p:grpSpPr>
          <a:xfrm>
            <a:off x="611280" y="692280"/>
            <a:ext cx="7200360" cy="964440"/>
            <a:chOff x="611280" y="692280"/>
            <a:chExt cx="7200360" cy="964440"/>
          </a:xfrm>
        </p:grpSpPr>
        <p:sp>
          <p:nvSpPr>
            <p:cNvPr id="619" name=""/>
            <p:cNvSpPr/>
            <p:nvPr/>
          </p:nvSpPr>
          <p:spPr>
            <a:xfrm>
              <a:off x="1042920" y="69228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63640" y="765360"/>
              <a:ext cx="58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能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为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1" name=""/>
                <p:cNvSpPr txBox="1"/>
                <p:nvPr/>
              </p:nvSpPr>
              <p:spPr>
                <a:xfrm>
                  <a:off x="3490920" y="692280"/>
                  <a:ext cx="4320720" cy="45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代入后函数定义域为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"/>
            <p:cNvSpPr/>
            <p:nvPr/>
          </p:nvSpPr>
          <p:spPr>
            <a:xfrm>
              <a:off x="611280" y="1197000"/>
              <a:ext cx="20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空集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4365720"/>
            <a:ext cx="9144000" cy="249228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79280" y="404640"/>
            <a:ext cx="763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下列函数可以看成是哪些函数复合而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                                              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                                               (4)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258920" y="907920"/>
                <a:ext cx="187308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5148360" y="836640"/>
                <a:ext cx="2232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628" name=""/>
          <p:cNvGrpSpPr/>
          <p:nvPr/>
        </p:nvGrpSpPr>
        <p:grpSpPr>
          <a:xfrm>
            <a:off x="324000" y="2349360"/>
            <a:ext cx="804240" cy="533520"/>
            <a:chOff x="324000" y="2349360"/>
            <a:chExt cx="804240" cy="533520"/>
          </a:xfrm>
        </p:grpSpPr>
        <p:sp>
          <p:nvSpPr>
            <p:cNvPr id="629" name=""/>
            <p:cNvSpPr/>
            <p:nvPr/>
          </p:nvSpPr>
          <p:spPr>
            <a:xfrm>
              <a:off x="324000" y="2349360"/>
              <a:ext cx="533160" cy="5335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33000" y="2359080"/>
              <a:ext cx="79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1187280" y="1413000"/>
                <a:ext cx="259272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5219640" y="1341360"/>
                <a:ext cx="1584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e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3" name=""/>
          <p:cNvSpPr/>
          <p:nvPr/>
        </p:nvSpPr>
        <p:spPr>
          <a:xfrm>
            <a:off x="1332000" y="234936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)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由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简单函数复合而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中间变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1763640" y="2205000"/>
                <a:ext cx="1728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5" name=""/>
              <p:cNvSpPr txBox="1"/>
              <p:nvPr/>
            </p:nvSpPr>
            <p:spPr>
              <a:xfrm>
                <a:off x="4211640" y="2349360"/>
                <a:ext cx="1008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u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4211640" y="2708280"/>
                <a:ext cx="326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7" name=""/>
              <p:cNvSpPr txBox="1"/>
              <p:nvPr/>
            </p:nvSpPr>
            <p:spPr>
              <a:xfrm>
                <a:off x="5580000" y="2349360"/>
                <a:ext cx="144144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8" name=""/>
          <p:cNvSpPr/>
          <p:nvPr/>
        </p:nvSpPr>
        <p:spPr>
          <a:xfrm>
            <a:off x="1262160" y="3213000"/>
            <a:ext cx="669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2)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由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简单函数复合而成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中间变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"/>
              <p:cNvSpPr txBox="1"/>
              <p:nvPr/>
            </p:nvSpPr>
            <p:spPr>
              <a:xfrm>
                <a:off x="1909800" y="3141720"/>
                <a:ext cx="194292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716360" y="3141720"/>
                <a:ext cx="9352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6084720" y="3141720"/>
                <a:ext cx="15116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2" name=""/>
              <p:cNvSpPr txBox="1"/>
              <p:nvPr/>
            </p:nvSpPr>
            <p:spPr>
              <a:xfrm>
                <a:off x="5148360" y="3645000"/>
                <a:ext cx="326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3" name=""/>
          <p:cNvSpPr/>
          <p:nvPr/>
        </p:nvSpPr>
        <p:spPr>
          <a:xfrm>
            <a:off x="1258920" y="4076640"/>
            <a:ext cx="7272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是由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                 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个简单函数复合而成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中间变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4" name=""/>
              <p:cNvSpPr txBox="1"/>
              <p:nvPr/>
            </p:nvSpPr>
            <p:spPr>
              <a:xfrm>
                <a:off x="1835280" y="4076640"/>
                <a:ext cx="20160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5" name=""/>
              <p:cNvSpPr txBox="1"/>
              <p:nvPr/>
            </p:nvSpPr>
            <p:spPr>
              <a:xfrm>
                <a:off x="4572000" y="4005360"/>
                <a:ext cx="9349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7380360" y="4076640"/>
                <a:ext cx="136692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7" name=""/>
              <p:cNvSpPr txBox="1"/>
              <p:nvPr/>
            </p:nvSpPr>
            <p:spPr>
              <a:xfrm>
                <a:off x="5940360" y="4149720"/>
                <a:ext cx="1224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5508720" y="4724280"/>
                <a:ext cx="3268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9" name=""/>
              <p:cNvSpPr txBox="1"/>
              <p:nvPr/>
            </p:nvSpPr>
            <p:spPr>
              <a:xfrm>
                <a:off x="4859280" y="4724280"/>
                <a:ext cx="360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50" name=""/>
          <p:cNvGrpSpPr/>
          <p:nvPr/>
        </p:nvGrpSpPr>
        <p:grpSpPr>
          <a:xfrm>
            <a:off x="1258920" y="5084640"/>
            <a:ext cx="7850160" cy="2085480"/>
            <a:chOff x="1258920" y="5084640"/>
            <a:chExt cx="7850160" cy="2085480"/>
          </a:xfrm>
        </p:grpSpPr>
        <p:sp>
          <p:nvSpPr>
            <p:cNvPr id="651" name=""/>
            <p:cNvSpPr/>
            <p:nvPr/>
          </p:nvSpPr>
          <p:spPr>
            <a:xfrm>
              <a:off x="1258920" y="5232240"/>
              <a:ext cx="7850160" cy="19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1500"/>
                </a:spcBef>
                <a:buClr>
                  <a:srgbClr val="000000"/>
                </a:buClr>
                <a:buFont typeface="Arial"/>
                <a:buAutoNum type="arabicParenR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是由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,                  ,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三个简单函数复合而成的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;       ,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为中间变量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2" name=""/>
                <p:cNvSpPr txBox="1"/>
                <p:nvPr/>
              </p:nvSpPr>
              <p:spPr>
                <a:xfrm>
                  <a:off x="1908360" y="5084640"/>
                  <a:ext cx="1184040" cy="64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e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3" name=""/>
                <p:cNvSpPr txBox="1"/>
                <p:nvPr/>
              </p:nvSpPr>
              <p:spPr>
                <a:xfrm>
                  <a:off x="4067280" y="5156280"/>
                  <a:ext cx="919080" cy="622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u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4" name=""/>
                <p:cNvSpPr txBox="1"/>
                <p:nvPr/>
              </p:nvSpPr>
              <p:spPr>
                <a:xfrm>
                  <a:off x="5435640" y="5371920"/>
                  <a:ext cx="1117800" cy="343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  <m:r>
                        <m:t xml:space="preserve">=</m:t>
                      </m:r>
                      <m:r>
                        <m:t xml:space="preserve">e</m:t>
                      </m:r>
                      <m:r>
                        <m:t xml:space="preserve">−</m:t>
                      </m:r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5" name=""/>
                <p:cNvSpPr txBox="1"/>
                <p:nvPr/>
              </p:nvSpPr>
              <p:spPr>
                <a:xfrm>
                  <a:off x="6875640" y="5227560"/>
                  <a:ext cx="787320" cy="474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6" name=""/>
                <p:cNvSpPr txBox="1"/>
                <p:nvPr/>
              </p:nvSpPr>
              <p:spPr>
                <a:xfrm>
                  <a:off x="4932360" y="5877000"/>
                  <a:ext cx="27648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u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57" name=""/>
                <p:cNvSpPr txBox="1"/>
                <p:nvPr/>
              </p:nvSpPr>
              <p:spPr>
                <a:xfrm>
                  <a:off x="5580000" y="5877000"/>
                  <a:ext cx="249480" cy="36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v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58" name=""/>
              <p:cNvSpPr txBox="1"/>
              <p:nvPr/>
            </p:nvSpPr>
            <p:spPr>
              <a:xfrm>
                <a:off x="4427640" y="476280"/>
                <a:ext cx="25056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2987640" y="1052640"/>
                <a:ext cx="31104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2100240" y="403560"/>
            <a:ext cx="9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块正方形纸板的边长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68960" y="403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将其四角各截去一个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4325040" y="9799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小正方形，再将四边折起做成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130440" y="1483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为所截小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184040" y="981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相同的边长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671840" y="1483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无盖方盒，试将此无盖方盒的容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6" name=""/>
              <p:cNvSpPr txBox="1"/>
              <p:nvPr/>
            </p:nvSpPr>
            <p:spPr>
              <a:xfrm>
                <a:off x="5435640" y="1557360"/>
                <a:ext cx="303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7" name=""/>
          <p:cNvSpPr/>
          <p:nvPr/>
        </p:nvSpPr>
        <p:spPr>
          <a:xfrm>
            <a:off x="3529080" y="3511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123200" y="213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边长的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2997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00000" y="4653000"/>
            <a:ext cx="2159280" cy="180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900000" y="4653000"/>
            <a:ext cx="64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411280" y="5805360"/>
            <a:ext cx="64800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411280" y="4653000"/>
            <a:ext cx="648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900000" y="5805360"/>
            <a:ext cx="64764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2627280" y="4292640"/>
                <a:ext cx="2620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684360" y="5373720"/>
                <a:ext cx="19512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611280" y="4653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11280" y="6453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5564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755640" y="4652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2411280" y="436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059280" y="436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2411280" y="44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2843280" y="44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5" name=""/>
              <p:cNvSpPr txBox="1"/>
              <p:nvPr/>
            </p:nvSpPr>
            <p:spPr>
              <a:xfrm>
                <a:off x="2124000" y="2924280"/>
                <a:ext cx="23050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6" name=""/>
          <p:cNvSpPr/>
          <p:nvPr/>
        </p:nvSpPr>
        <p:spPr>
          <a:xfrm flipV="1">
            <a:off x="1547640" y="436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1547280" y="4437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195640" y="4437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1835280" y="4365720"/>
                <a:ext cx="41904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0" name=""/>
              <p:cNvSpPr txBox="1"/>
              <p:nvPr/>
            </p:nvSpPr>
            <p:spPr>
              <a:xfrm>
                <a:off x="1116000" y="4292640"/>
                <a:ext cx="26352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1" name=""/>
          <p:cNvSpPr/>
          <p:nvPr/>
        </p:nvSpPr>
        <p:spPr>
          <a:xfrm>
            <a:off x="1258920" y="4437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90000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900000" y="44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1689480" y="619560"/>
            <a:ext cx="51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某玩具厂生产玩具的固定本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每生产一个玩具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5" name=""/>
              <p:cNvSpPr txBox="1"/>
              <p:nvPr/>
            </p:nvSpPr>
            <p:spPr>
              <a:xfrm>
                <a:off x="2771640" y="1773360"/>
                <a:ext cx="339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6" name=""/>
          <p:cNvSpPr/>
          <p:nvPr/>
        </p:nvSpPr>
        <p:spPr>
          <a:xfrm>
            <a:off x="3914280" y="169920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试求收益函数，利润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048360" y="1125360"/>
            <a:ext cx="17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函数；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50240" y="112536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成本增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372480" y="112536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试求总成本函数和平均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896760" y="1700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个玩具售价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68360" y="242100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042920" y="2349360"/>
            <a:ext cx="53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生产的玩具数量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3924360" y="2421000"/>
                <a:ext cx="28404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4" name=""/>
          <p:cNvSpPr/>
          <p:nvPr/>
        </p:nvSpPr>
        <p:spPr>
          <a:xfrm>
            <a:off x="4284720" y="234936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成本函数和平均成本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3059280" y="3357720"/>
                <a:ext cx="1944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6" name=""/>
          <p:cNvSpPr/>
          <p:nvPr/>
        </p:nvSpPr>
        <p:spPr>
          <a:xfrm>
            <a:off x="1324440" y="299736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被别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7" name=""/>
              <p:cNvSpPr txBox="1"/>
              <p:nvPr/>
            </p:nvSpPr>
            <p:spPr>
              <a:xfrm>
                <a:off x="3059280" y="3860640"/>
                <a:ext cx="280800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q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8" name=""/>
          <p:cNvSpPr/>
          <p:nvPr/>
        </p:nvSpPr>
        <p:spPr>
          <a:xfrm>
            <a:off x="1042920" y="501336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收益函数和利润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9" name=""/>
              <p:cNvSpPr txBox="1"/>
              <p:nvPr/>
            </p:nvSpPr>
            <p:spPr>
              <a:xfrm>
                <a:off x="3059280" y="6093000"/>
                <a:ext cx="511164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0" name=""/>
              <p:cNvSpPr txBox="1"/>
              <p:nvPr/>
            </p:nvSpPr>
            <p:spPr>
              <a:xfrm>
                <a:off x="3492360" y="5445000"/>
                <a:ext cx="136692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1" name=""/>
              <p:cNvSpPr txBox="1"/>
              <p:nvPr/>
            </p:nvSpPr>
            <p:spPr>
              <a:xfrm>
                <a:off x="5796000" y="189000"/>
                <a:ext cx="23050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1476360" y="692280"/>
                <a:ext cx="2761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4859280" y="692280"/>
                <a:ext cx="8650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7236000" y="1268280"/>
                <a:ext cx="165708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1335960" y="153000"/>
            <a:ext cx="35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设某厂生产某种商品的总成本函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52680" y="6195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2303640" y="6195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产量，若以单价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262920" y="6195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出售，试求保本点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333800" y="16992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试问这对生产者是否有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017520" y="1125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种方式生产这种商品，其总成本函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079640" y="1125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以另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539640" y="2421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保本点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2340000" y="2492280"/>
                <a:ext cx="1297080" cy="3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140360" y="2421000"/>
                <a:ext cx="230472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5" name=""/>
          <p:cNvSpPr/>
          <p:nvPr/>
        </p:nvSpPr>
        <p:spPr>
          <a:xfrm>
            <a:off x="3635280" y="242100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3284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"/>
              <p:cNvSpPr txBox="1"/>
              <p:nvPr/>
            </p:nvSpPr>
            <p:spPr>
              <a:xfrm>
                <a:off x="2771640" y="3284640"/>
                <a:ext cx="1008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755640" y="3789360"/>
                <a:ext cx="43671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1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0" name=""/>
          <p:cNvSpPr/>
          <p:nvPr/>
        </p:nvSpPr>
        <p:spPr>
          <a:xfrm>
            <a:off x="5003640" y="378936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换为另一种方式有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"/>
              <p:cNvSpPr txBox="1"/>
              <p:nvPr/>
            </p:nvSpPr>
            <p:spPr>
              <a:xfrm>
                <a:off x="611280" y="4869000"/>
                <a:ext cx="446400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10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5</m:t>
                    </m:r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q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"/>
          <p:cNvSpPr/>
          <p:nvPr/>
        </p:nvSpPr>
        <p:spPr>
          <a:xfrm>
            <a:off x="5076720" y="4724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换另一种方式不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71640" y="5013360"/>
            <a:ext cx="936720" cy="8636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24000" y="549360"/>
            <a:ext cx="849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知某种商品的供应函数和需求函数分别为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其中   以件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件计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试画出它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图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并求其市场价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"/>
              <p:cNvSpPr txBox="1"/>
              <p:nvPr/>
            </p:nvSpPr>
            <p:spPr>
              <a:xfrm>
                <a:off x="6659640" y="549360"/>
                <a:ext cx="194472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"/>
              <p:cNvSpPr txBox="1"/>
              <p:nvPr/>
            </p:nvSpPr>
            <p:spPr>
              <a:xfrm>
                <a:off x="468360" y="1125360"/>
                <a:ext cx="2160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"/>
              <p:cNvSpPr txBox="1"/>
              <p:nvPr/>
            </p:nvSpPr>
            <p:spPr>
              <a:xfrm>
                <a:off x="3276720" y="1125360"/>
                <a:ext cx="27144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4859280" y="1125360"/>
                <a:ext cx="34128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1" name=""/>
          <p:cNvGrpSpPr/>
          <p:nvPr/>
        </p:nvGrpSpPr>
        <p:grpSpPr>
          <a:xfrm>
            <a:off x="539640" y="2205000"/>
            <a:ext cx="647280" cy="503280"/>
            <a:chOff x="539640" y="2205000"/>
            <a:chExt cx="647280" cy="503280"/>
          </a:xfrm>
        </p:grpSpPr>
        <p:sp>
          <p:nvSpPr>
            <p:cNvPr id="742" name=""/>
            <p:cNvSpPr/>
            <p:nvPr/>
          </p:nvSpPr>
          <p:spPr>
            <a:xfrm>
              <a:off x="539640" y="2205000"/>
              <a:ext cx="429120" cy="50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46840" y="2214000"/>
              <a:ext cx="64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2050920" y="5013360"/>
            <a:ext cx="37450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484360" y="2491920"/>
            <a:ext cx="0" cy="2737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195640" y="5013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2484360" y="3644640"/>
            <a:ext cx="2158920" cy="1152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484360" y="4149720"/>
            <a:ext cx="2519280" cy="863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203640" y="4437000"/>
            <a:ext cx="0" cy="576360"/>
          </a:xfrm>
          <a:prstGeom prst="line">
            <a:avLst/>
          </a:prstGeom>
          <a:ln w="32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3564000" y="4149720"/>
                <a:ext cx="9349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4716360" y="3357720"/>
                <a:ext cx="194472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4284720" y="5084640"/>
                <a:ext cx="216036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3" name=""/>
              <p:cNvSpPr txBox="1"/>
              <p:nvPr/>
            </p:nvSpPr>
            <p:spPr>
              <a:xfrm>
                <a:off x="2771640" y="5013360"/>
                <a:ext cx="86364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4" name=""/>
              <p:cNvSpPr txBox="1"/>
              <p:nvPr/>
            </p:nvSpPr>
            <p:spPr>
              <a:xfrm>
                <a:off x="2124000" y="2276640"/>
                <a:ext cx="3049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5" name=""/>
              <p:cNvSpPr txBox="1"/>
              <p:nvPr/>
            </p:nvSpPr>
            <p:spPr>
              <a:xfrm>
                <a:off x="5940360" y="4797360"/>
                <a:ext cx="39204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6" name=""/>
          <p:cNvSpPr/>
          <p:nvPr/>
        </p:nvSpPr>
        <p:spPr>
          <a:xfrm>
            <a:off x="1908000" y="4581360"/>
            <a:ext cx="7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835280" y="3933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4572000" y="458136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132000" y="4365720"/>
            <a:ext cx="1447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484360" y="4797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48436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20364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3" name=""/>
              <p:cNvSpPr txBox="1"/>
              <p:nvPr/>
            </p:nvSpPr>
            <p:spPr>
              <a:xfrm>
                <a:off x="4284720" y="333360"/>
                <a:ext cx="1297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"/>
              <p:cNvSpPr txBox="1"/>
              <p:nvPr/>
            </p:nvSpPr>
            <p:spPr>
              <a:xfrm>
                <a:off x="6443640" y="404640"/>
                <a:ext cx="2206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8172360" y="404640"/>
                <a:ext cx="339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6" name=""/>
          <p:cNvSpPr/>
          <p:nvPr/>
        </p:nvSpPr>
        <p:spPr>
          <a:xfrm>
            <a:off x="1031040" y="259200"/>
            <a:ext cx="26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已知某商品的价格函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619960" y="332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其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94360" y="332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销售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685880" y="906840"/>
            <a:ext cx="443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价格，平均成本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。试求：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收益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1577160" y="1557360"/>
            <a:ext cx="253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成本函数；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利润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7164360" y="981000"/>
            <a:ext cx="4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468360" y="24922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1763640" y="2565360"/>
                <a:ext cx="3529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1763640" y="3213000"/>
                <a:ext cx="15843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1692360" y="3789360"/>
                <a:ext cx="70578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76" name=""/>
          <p:cNvSpPr/>
          <p:nvPr/>
        </p:nvSpPr>
        <p:spPr>
          <a:xfrm>
            <a:off x="1042920" y="2637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116000" y="3284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42920" y="386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"/>
          <p:cNvSpPr/>
          <p:nvPr/>
        </p:nvSpPr>
        <p:spPr>
          <a:xfrm>
            <a:off x="1337760" y="259200"/>
            <a:ext cx="61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某玩具厂每天生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玩具的成本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每天生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837600" y="836640"/>
            <a:ext cx="379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其线性成本函数，并求每天的固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397080" y="836640"/>
            <a:ext cx="29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玩具的成本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395280" y="1341360"/>
            <a:ext cx="475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本和生产一个玩具的可变成本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24000" y="206064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187280" y="2133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线性成本函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5" name=""/>
              <p:cNvSpPr txBox="1"/>
              <p:nvPr/>
            </p:nvSpPr>
            <p:spPr>
              <a:xfrm>
                <a:off x="3768840" y="2205000"/>
                <a:ext cx="12477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6" name=""/>
          <p:cNvSpPr/>
          <p:nvPr/>
        </p:nvSpPr>
        <p:spPr>
          <a:xfrm>
            <a:off x="5003640" y="2060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"/>
              <p:cNvSpPr txBox="1"/>
              <p:nvPr/>
            </p:nvSpPr>
            <p:spPr>
              <a:xfrm>
                <a:off x="5292720" y="2205000"/>
                <a:ext cx="2602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8" name=""/>
          <p:cNvSpPr/>
          <p:nvPr/>
        </p:nvSpPr>
        <p:spPr>
          <a:xfrm>
            <a:off x="5508720" y="2133720"/>
            <a:ext cx="29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固定成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"/>
              <p:cNvSpPr txBox="1"/>
              <p:nvPr/>
            </p:nvSpPr>
            <p:spPr>
              <a:xfrm>
                <a:off x="7020000" y="2133720"/>
                <a:ext cx="2174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0" name=""/>
          <p:cNvSpPr/>
          <p:nvPr/>
        </p:nvSpPr>
        <p:spPr>
          <a:xfrm>
            <a:off x="7164360" y="2060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可变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1258920" y="2997360"/>
            <a:ext cx="22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据题意得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3" name=""/>
              <p:cNvSpPr txBox="1"/>
              <p:nvPr/>
            </p:nvSpPr>
            <p:spPr>
              <a:xfrm>
                <a:off x="1835280" y="3860640"/>
                <a:ext cx="2016000" cy="98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0</m:t>
                              </m:r>
                              <m:r>
                                <m:t xml:space="preserve">=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  <m:r>
                                <m:t xml:space="preserve">b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40</m:t>
                              </m:r>
                              <m:r>
                                <m:t xml:space="preserve">=</m:t>
                              </m:r>
                              <m:r>
                                <m:t xml:space="preserve">a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  <m:r>
                                <m:t xml:space="preserve">b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4140360" y="3860640"/>
                <a:ext cx="1598400" cy="9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0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  <m:r>
                                <m:t xml:space="preserve">=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1116000" y="537372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天的固定成本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产一个玩具的可变成本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1591920" y="258480"/>
            <a:ext cx="563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某厂生产某种商品，其年销售量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件，每批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产需准备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而每件商品每年库存费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0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。如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该商品年销售率是均匀的，试建立总费用与批次的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5280" y="177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403280" y="177336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批次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2771640" y="1916280"/>
                <a:ext cx="260640" cy="28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0" name=""/>
          <p:cNvSpPr/>
          <p:nvPr/>
        </p:nvSpPr>
        <p:spPr>
          <a:xfrm>
            <a:off x="3059280" y="177336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费用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据题意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2700360" y="2276640"/>
                <a:ext cx="360036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00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1619280" y="393372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2771640" y="3860640"/>
                <a:ext cx="302436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0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4437000"/>
            <a:ext cx="9144000" cy="242100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260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                                       的反函数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19280" y="189000"/>
                <a:ext cx="287964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468360" y="1125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403280" y="1125360"/>
                <a:ext cx="1486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3995640" y="11253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643280" y="1125360"/>
                <a:ext cx="16765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755640" y="2205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03280" y="2133720"/>
                <a:ext cx="14986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708360" y="2133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4643280" y="2133720"/>
                <a:ext cx="167652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755640" y="31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3141720"/>
            <a:ext cx="66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从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出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916360" y="3068640"/>
                <a:ext cx="27367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rad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516720" y="3068640"/>
                <a:ext cx="16765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971640" y="393372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得出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得出答案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11280" y="3933720"/>
                <a:ext cx="16765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3059280" y="549360"/>
                <a:ext cx="2188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5867280" y="549360"/>
                <a:ext cx="244800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6" name=""/>
              <p:cNvSpPr txBox="1"/>
              <p:nvPr/>
            </p:nvSpPr>
            <p:spPr>
              <a:xfrm>
                <a:off x="3059280" y="1197000"/>
                <a:ext cx="3520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5940360" y="1052640"/>
                <a:ext cx="14400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5435640" y="1700280"/>
                <a:ext cx="31572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8101080" y="1700280"/>
                <a:ext cx="328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0" name=""/>
          <p:cNvSpPr/>
          <p:nvPr/>
        </p:nvSpPr>
        <p:spPr>
          <a:xfrm>
            <a:off x="611280" y="4737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20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某厂每批生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348000" y="47520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吨某商品的成本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929160" y="11242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万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，每吨售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908880" y="1124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万元；且需求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968560" y="1699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。试将每批产品销售后获得的利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796000" y="1699200"/>
            <a:ext cx="23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万元表示为产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693360" y="2275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308240" y="2275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函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84360" y="29242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2050920" y="2852640"/>
                <a:ext cx="266400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Q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1" name=""/>
              <p:cNvSpPr txBox="1"/>
              <p:nvPr/>
            </p:nvSpPr>
            <p:spPr>
              <a:xfrm>
                <a:off x="1979640" y="3645000"/>
                <a:ext cx="47433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2" name=""/>
              <p:cNvSpPr txBox="1"/>
              <p:nvPr/>
            </p:nvSpPr>
            <p:spPr>
              <a:xfrm>
                <a:off x="1908000" y="4365720"/>
                <a:ext cx="56898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Q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3" name=""/>
              <p:cNvSpPr txBox="1"/>
              <p:nvPr/>
            </p:nvSpPr>
            <p:spPr>
              <a:xfrm>
                <a:off x="2771640" y="5229360"/>
                <a:ext cx="3384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"/>
          <p:cNvSpPr/>
          <p:nvPr/>
        </p:nvSpPr>
        <p:spPr>
          <a:xfrm>
            <a:off x="1425960" y="75600"/>
            <a:ext cx="628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某商店半年销售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件小器皿，均匀销售，为节约存费，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批进货。每批订货费用（订合同手续费、旅差费运货费等）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件器皿的储存费为每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.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元，试列出储存费和进货费之和与批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间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-1012680" y="3357720"/>
                <a:ext cx="123840" cy="14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6" name=""/>
          <p:cNvSpPr/>
          <p:nvPr/>
        </p:nvSpPr>
        <p:spPr>
          <a:xfrm>
            <a:off x="1805040" y="11242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函数关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50920" y="2133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042920" y="213372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批量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9" name=""/>
              <p:cNvSpPr txBox="1"/>
              <p:nvPr/>
            </p:nvSpPr>
            <p:spPr>
              <a:xfrm>
                <a:off x="2411280" y="2205000"/>
                <a:ext cx="3254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0" name=""/>
          <p:cNvSpPr/>
          <p:nvPr/>
        </p:nvSpPr>
        <p:spPr>
          <a:xfrm>
            <a:off x="2771640" y="213372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储存费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1" name=""/>
              <p:cNvSpPr txBox="1"/>
              <p:nvPr/>
            </p:nvSpPr>
            <p:spPr>
              <a:xfrm>
                <a:off x="4140360" y="1989000"/>
                <a:ext cx="107604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2" name=""/>
          <p:cNvSpPr/>
          <p:nvPr/>
        </p:nvSpPr>
        <p:spPr>
          <a:xfrm>
            <a:off x="5508720" y="2133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进货次数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8360" y="285264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费用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971640" y="3429000"/>
                <a:ext cx="641340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5" name=""/>
          <p:cNvSpPr/>
          <p:nvPr/>
        </p:nvSpPr>
        <p:spPr>
          <a:xfrm>
            <a:off x="2484360" y="537372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存储费的计算一定要注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是半年的费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0.2X6=1.2yu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7380360" y="1989000"/>
                <a:ext cx="5936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3950640" y="25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"/>
              <p:cNvSpPr txBox="1"/>
              <p:nvPr/>
            </p:nvSpPr>
            <p:spPr>
              <a:xfrm>
                <a:off x="755640" y="1268280"/>
                <a:ext cx="3380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7524720" y="1341360"/>
                <a:ext cx="33984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1773360" y="763920"/>
            <a:ext cx="58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某专业共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学生，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数学考试成绩优秀，用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2119320" y="1267200"/>
            <a:ext cx="42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这些学生；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名外语考试成绩优秀；用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507040" y="3066120"/>
            <a:ext cx="4926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门考试成绩都是优秀的学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学考试成绩不是优秀而外语考试成绩是优秀的学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门考试成绩中至少有一门成绩达到优秀的学生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门考试成绩均不是优秀的学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986240" y="126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这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879120" y="1773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523960" y="1773360"/>
            <a:ext cx="427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数学考试成绩优秀而外语考试成绩不是优秀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549880" y="2349360"/>
            <a:ext cx="13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生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。试用集合关系表示下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130440" y="2276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类学生，并计算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173600" y="28526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各类学生的数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755640" y="530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2124000" y="5373720"/>
                <a:ext cx="187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;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2" name=""/>
          <p:cNvSpPr/>
          <p:nvPr/>
        </p:nvSpPr>
        <p:spPr>
          <a:xfrm>
            <a:off x="3851280" y="530064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4211640" y="5373720"/>
                <a:ext cx="1440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4" name=""/>
          <p:cNvSpPr/>
          <p:nvPr/>
        </p:nvSpPr>
        <p:spPr>
          <a:xfrm>
            <a:off x="1403280" y="59500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411280" y="59500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门考试都优秀的学生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0-55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/>
          <p:nvPr/>
        </p:nvSpPr>
        <p:spPr>
          <a:xfrm>
            <a:off x="539640" y="4046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∩</m:t>
                    </m:r>
                    <m:r>
                      <m:t xml:space="preserve">A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1547640" y="404640"/>
                <a:ext cx="35290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∩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1" name=""/>
          <p:cNvSpPr/>
          <p:nvPr/>
        </p:nvSpPr>
        <p:spPr>
          <a:xfrm>
            <a:off x="539640" y="1268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"/>
              <p:cNvSpPr txBox="1"/>
              <p:nvPr/>
            </p:nvSpPr>
            <p:spPr>
              <a:xfrm>
                <a:off x="1476360" y="1268280"/>
                <a:ext cx="525636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0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3" name=""/>
          <p:cNvSpPr/>
          <p:nvPr/>
        </p:nvSpPr>
        <p:spPr>
          <a:xfrm>
            <a:off x="468360" y="22050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"/>
              <p:cNvSpPr txBox="1"/>
              <p:nvPr/>
            </p:nvSpPr>
            <p:spPr>
              <a:xfrm>
                <a:off x="1547640" y="2205000"/>
                <a:ext cx="410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5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5" name=""/>
          <p:cNvSpPr/>
          <p:nvPr/>
        </p:nvSpPr>
        <p:spPr>
          <a:xfrm>
            <a:off x="1882440" y="2951640"/>
            <a:ext cx="6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下列函数的定义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7" name=""/>
              <p:cNvSpPr txBox="1"/>
              <p:nvPr/>
            </p:nvSpPr>
            <p:spPr>
              <a:xfrm>
                <a:off x="1692360" y="3645000"/>
                <a:ext cx="13683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68" name=""/>
          <p:cNvSpPr/>
          <p:nvPr/>
        </p:nvSpPr>
        <p:spPr>
          <a:xfrm>
            <a:off x="971640" y="3645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140360" y="3645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1" name=""/>
              <p:cNvSpPr txBox="1"/>
              <p:nvPr/>
            </p:nvSpPr>
            <p:spPr>
              <a:xfrm>
                <a:off x="4932360" y="3716280"/>
                <a:ext cx="1511280" cy="3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2" name=""/>
          <p:cNvSpPr/>
          <p:nvPr/>
        </p:nvSpPr>
        <p:spPr>
          <a:xfrm>
            <a:off x="900000" y="443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4" name=""/>
              <p:cNvSpPr txBox="1"/>
              <p:nvPr/>
            </p:nvSpPr>
            <p:spPr>
              <a:xfrm>
                <a:off x="1619280" y="4292640"/>
                <a:ext cx="3600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ra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5" name=""/>
          <p:cNvSpPr/>
          <p:nvPr/>
        </p:nvSpPr>
        <p:spPr>
          <a:xfrm>
            <a:off x="611280" y="5300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1403280" y="530064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号里面的数大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7" name=""/>
              <p:cNvSpPr txBox="1"/>
              <p:nvPr/>
            </p:nvSpPr>
            <p:spPr>
              <a:xfrm>
                <a:off x="4114800" y="3308400"/>
                <a:ext cx="914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2124000" y="5877000"/>
                <a:ext cx="1224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3492360" y="5877000"/>
                <a:ext cx="5032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0" name=""/>
              <p:cNvSpPr txBox="1"/>
              <p:nvPr/>
            </p:nvSpPr>
            <p:spPr>
              <a:xfrm>
                <a:off x="4067280" y="5805360"/>
                <a:ext cx="7617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4932360" y="5877000"/>
                <a:ext cx="23036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或者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755640" y="692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1258920" y="620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对数里面的数大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0;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4114800" y="3308400"/>
                <a:ext cx="914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4114800" y="3308400"/>
                <a:ext cx="914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6" name=""/>
              <p:cNvSpPr txBox="1"/>
              <p:nvPr/>
            </p:nvSpPr>
            <p:spPr>
              <a:xfrm>
                <a:off x="4114800" y="3308400"/>
                <a:ext cx="91440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403280" y="1268280"/>
                <a:ext cx="1943280" cy="117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8" name=""/>
              <p:cNvSpPr txBox="1"/>
              <p:nvPr/>
            </p:nvSpPr>
            <p:spPr>
              <a:xfrm>
                <a:off x="3276720" y="1341360"/>
                <a:ext cx="345744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1619280" y="2924280"/>
                <a:ext cx="36003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ra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rcsin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0" name=""/>
          <p:cNvSpPr/>
          <p:nvPr/>
        </p:nvSpPr>
        <p:spPr>
          <a:xfrm>
            <a:off x="826920" y="306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332000" y="386064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根号里面的数大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反函数里面的数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5364000" y="3860640"/>
                <a:ext cx="64800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5940360" y="386064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4" name=""/>
              <p:cNvSpPr txBox="1"/>
              <p:nvPr/>
            </p:nvSpPr>
            <p:spPr>
              <a:xfrm>
                <a:off x="1835280" y="4221000"/>
                <a:ext cx="4751280" cy="11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6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7</m:t>
                                  </m:r>
                                </m:den>
                              </m:f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3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或者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2987640" y="5589720"/>
                <a:ext cx="259236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3,4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6" name=""/>
              <p:cNvSpPr txBox="1"/>
              <p:nvPr/>
            </p:nvSpPr>
            <p:spPr>
              <a:xfrm>
                <a:off x="1908000" y="692280"/>
                <a:ext cx="648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7" name=""/>
              <p:cNvSpPr txBox="1"/>
              <p:nvPr/>
            </p:nvSpPr>
            <p:spPr>
              <a:xfrm>
                <a:off x="4211640" y="620640"/>
                <a:ext cx="71928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8" name=""/>
              <p:cNvSpPr txBox="1"/>
              <p:nvPr/>
            </p:nvSpPr>
            <p:spPr>
              <a:xfrm>
                <a:off x="5580000" y="692280"/>
                <a:ext cx="194472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f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9" name=""/>
          <p:cNvSpPr/>
          <p:nvPr/>
        </p:nvSpPr>
        <p:spPr>
          <a:xfrm>
            <a:off x="749880" y="584640"/>
            <a:ext cx="119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725200" y="61956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定义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859280" y="619560"/>
            <a:ext cx="79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8124840" y="6912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定义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826920" y="1413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3780000" y="1341360"/>
                <a:ext cx="36716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5" name=""/>
              <p:cNvSpPr txBox="1"/>
              <p:nvPr/>
            </p:nvSpPr>
            <p:spPr>
              <a:xfrm>
                <a:off x="1763640" y="1341360"/>
                <a:ext cx="144144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对于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6" name=""/>
              <p:cNvSpPr txBox="1"/>
              <p:nvPr/>
            </p:nvSpPr>
            <p:spPr>
              <a:xfrm>
                <a:off x="3203640" y="1413000"/>
                <a:ext cx="4683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1692360" y="1844640"/>
                <a:ext cx="4321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)</m:t>
                    </m:r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≤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6012000" y="1916280"/>
                <a:ext cx="12794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9" name=""/>
              <p:cNvSpPr txBox="1"/>
              <p:nvPr/>
            </p:nvSpPr>
            <p:spPr>
              <a:xfrm>
                <a:off x="3708360" y="2421000"/>
                <a:ext cx="20160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0" name=""/>
          <p:cNvSpPr/>
          <p:nvPr/>
        </p:nvSpPr>
        <p:spPr>
          <a:xfrm>
            <a:off x="1187280" y="1413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116000" y="1989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2" name=""/>
              <p:cNvSpPr txBox="1"/>
              <p:nvPr/>
            </p:nvSpPr>
            <p:spPr>
              <a:xfrm>
                <a:off x="1403280" y="2997360"/>
                <a:ext cx="201456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3995640" y="3141720"/>
                <a:ext cx="8398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4" name=""/>
          <p:cNvSpPr/>
          <p:nvPr/>
        </p:nvSpPr>
        <p:spPr>
          <a:xfrm>
            <a:off x="754560" y="3105720"/>
            <a:ext cx="7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3345480" y="30675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991320" y="3845880"/>
            <a:ext cx="24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258920" y="3860640"/>
                <a:ext cx="1512720" cy="77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设t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8" name=""/>
              <p:cNvSpPr txBox="1"/>
              <p:nvPr/>
            </p:nvSpPr>
            <p:spPr>
              <a:xfrm>
                <a:off x="3059280" y="3933720"/>
                <a:ext cx="3097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2484360" y="4941720"/>
                <a:ext cx="208764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2700360" y="5516640"/>
                <a:ext cx="2087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1" name=""/>
              <p:cNvSpPr txBox="1"/>
              <p:nvPr/>
            </p:nvSpPr>
            <p:spPr>
              <a:xfrm>
                <a:off x="3635280" y="5950080"/>
                <a:ext cx="33847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22" name=""/>
              <p:cNvSpPr txBox="1"/>
              <p:nvPr/>
            </p:nvSpPr>
            <p:spPr>
              <a:xfrm>
                <a:off x="1908000" y="549360"/>
                <a:ext cx="309564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3" name=""/>
              <p:cNvSpPr txBox="1"/>
              <p:nvPr/>
            </p:nvSpPr>
            <p:spPr>
              <a:xfrm>
                <a:off x="6012000" y="620640"/>
                <a:ext cx="3124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4" name=""/>
              <p:cNvSpPr txBox="1"/>
              <p:nvPr/>
            </p:nvSpPr>
            <p:spPr>
              <a:xfrm>
                <a:off x="900000" y="1052640"/>
                <a:ext cx="122400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5" name=""/>
          <p:cNvSpPr/>
          <p:nvPr/>
        </p:nvSpPr>
        <p:spPr>
          <a:xfrm>
            <a:off x="858960" y="5482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5105880" y="548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6536880" y="54828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取值范围，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274840" y="105156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9" name=""/>
              <p:cNvSpPr txBox="1"/>
              <p:nvPr/>
            </p:nvSpPr>
            <p:spPr>
              <a:xfrm>
                <a:off x="2050920" y="1413000"/>
                <a:ext cx="439272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由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0" name=""/>
              <p:cNvSpPr txBox="1"/>
              <p:nvPr/>
            </p:nvSpPr>
            <p:spPr>
              <a:xfrm>
                <a:off x="2771640" y="3141720"/>
                <a:ext cx="29988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或者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d>
                                <m:dPr>
                                  <m:begChr m:val="|"/>
                                  <m:endChr m:val="|"/>
                                </m:dPr>
                                <m:e>
                                  <m:r>
                                    <m:t xml:space="preserve">x</m:t>
                                  </m:r>
                                </m:e>
                              </m:d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1" name=""/>
              <p:cNvSpPr txBox="1"/>
              <p:nvPr/>
            </p:nvSpPr>
            <p:spPr>
              <a:xfrm>
                <a:off x="3492360" y="4869000"/>
                <a:ext cx="24498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32" name=""/>
              <p:cNvSpPr txBox="1"/>
              <p:nvPr/>
            </p:nvSpPr>
            <p:spPr>
              <a:xfrm>
                <a:off x="1547640" y="549360"/>
                <a:ext cx="15130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3" name=""/>
              <p:cNvSpPr txBox="1"/>
              <p:nvPr/>
            </p:nvSpPr>
            <p:spPr>
              <a:xfrm>
                <a:off x="3276720" y="620640"/>
                <a:ext cx="2233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[</m:t>
                    </m:r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"/>
              <p:cNvSpPr txBox="1"/>
              <p:nvPr/>
            </p:nvSpPr>
            <p:spPr>
              <a:xfrm>
                <a:off x="6156360" y="620640"/>
                <a:ext cx="1440000" cy="5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755640" y="1268280"/>
                <a:ext cx="7920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539640" y="6195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860640" y="289008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504400" y="61956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7664760" y="69120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740240" y="1340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确定它的定义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1" name=""/>
              <p:cNvSpPr txBox="1"/>
              <p:nvPr/>
            </p:nvSpPr>
            <p:spPr>
              <a:xfrm>
                <a:off x="900000" y="2133720"/>
                <a:ext cx="712800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[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ϕ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又</m:t>
                        </m:r>
                        <m:r>
                          <m:t xml:space="preserve">∵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ϕ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3" name=""/>
              <p:cNvSpPr txBox="1"/>
              <p:nvPr/>
            </p:nvSpPr>
            <p:spPr>
              <a:xfrm>
                <a:off x="2556000" y="3860640"/>
                <a:ext cx="345600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3492360" y="5589720"/>
                <a:ext cx="144000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1747440" y="406440"/>
            <a:ext cx="6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求下列函数的反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1042920" y="836640"/>
                <a:ext cx="46087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rad>
                    <m:r>
                      <m:t xml:space="preserve">+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47" name=""/>
          <p:cNvSpPr/>
          <p:nvPr/>
        </p:nvSpPr>
        <p:spPr>
          <a:xfrm>
            <a:off x="3563640" y="3652200"/>
            <a:ext cx="27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900000" y="2565360"/>
                <a:ext cx="73090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1835280" y="3645000"/>
                <a:ext cx="525780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2916360" y="4941720"/>
                <a:ext cx="280800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278136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26028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空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0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32000" y="105264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集合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340000" y="1125360"/>
                <a:ext cx="170172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,3,4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140360" y="1125360"/>
                <a:ext cx="17269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3,5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6372360" y="1125360"/>
                <a:ext cx="774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∪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7451640" y="1557360"/>
            <a:ext cx="16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7704000" y="1125360"/>
                <a:ext cx="14400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,3,4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826920" y="1700280"/>
                <a:ext cx="10288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908000" y="213372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156360" y="170028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8000" y="1628640"/>
            <a:ext cx="42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268360" y="1700280"/>
                <a:ext cx="719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900000" y="270828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集合      为函数                    的定义域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411280" y="2781360"/>
                <a:ext cx="355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924360" y="2565360"/>
                <a:ext cx="12952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6804000" y="2781360"/>
                <a:ext cx="368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971640" y="350028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971640" y="3357720"/>
                <a:ext cx="11300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2124000" y="3357720"/>
            <a:ext cx="70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定义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集合                  的关系为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4427640" y="3429000"/>
                <a:ext cx="35532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4788000" y="33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0" y="3284640"/>
            <a:ext cx="5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292720" y="3429000"/>
                <a:ext cx="368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020000" y="3429000"/>
                <a:ext cx="355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7380360" y="378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8244000" y="3429000"/>
                <a:ext cx="3682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596360" y="3500280"/>
                <a:ext cx="315720" cy="2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826920" y="4365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3280" y="436572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908000" y="4365720"/>
                <a:ext cx="2870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859280" y="443700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219640" y="4437000"/>
                <a:ext cx="20955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≤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7451640" y="4437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71640" y="508464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403280" y="5157720"/>
                <a:ext cx="77472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∩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2484360" y="551664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2771640" y="4941720"/>
                <a:ext cx="12240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"/>
              <p:cNvSpPr txBox="1"/>
              <p:nvPr/>
            </p:nvSpPr>
            <p:spPr>
              <a:xfrm>
                <a:off x="1476360" y="404640"/>
                <a:ext cx="266544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53" name=""/>
          <p:cNvSpPr/>
          <p:nvPr/>
        </p:nvSpPr>
        <p:spPr>
          <a:xfrm>
            <a:off x="539640" y="765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826920" y="2205000"/>
                <a:ext cx="7596360" cy="17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1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2</m:t>
                                  </m:r>
                                </m:e>
                                <m:sup>
                                  <m:r>
                                    <m:t xml:space="preserve">x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  <m:m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y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/>
                      </m:mr>
                      <m:mr>
                        <m:e/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≤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&g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5" name=""/>
              <p:cNvSpPr txBox="1"/>
              <p:nvPr/>
            </p:nvSpPr>
            <p:spPr>
              <a:xfrm>
                <a:off x="2050920" y="4581360"/>
                <a:ext cx="468180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ad>
                                <m:radPr>
                                  <m:degHide m:val="1"/>
                                </m:radPr>
                                <m:deg/>
                                <m:e>
                                  <m:r>
                                    <m:t xml:space="preserve">x</m:t>
                                  </m:r>
                                </m:e>
                              </m:rad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o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x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/>
                      </m:mr>
                      <m:mr>
                        <m:e/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lt;</m:t>
                                </m:r>
                                <m:r>
                                  <m:t xml:space="preserve">1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≤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&gt;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56" name=""/>
              <p:cNvSpPr txBox="1"/>
              <p:nvPr/>
            </p:nvSpPr>
            <p:spPr>
              <a:xfrm>
                <a:off x="1476360" y="692280"/>
                <a:ext cx="57168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419640" y="620640"/>
                <a:ext cx="64260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1476360" y="1557360"/>
                <a:ext cx="1503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1547640" y="2349360"/>
                <a:ext cx="1503360" cy="2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0" name=""/>
          <p:cNvSpPr/>
          <p:nvPr/>
        </p:nvSpPr>
        <p:spPr>
          <a:xfrm>
            <a:off x="862560" y="584640"/>
            <a:ext cx="64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2186640" y="54828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定义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4404240" y="54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上的任意函数，试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56840" y="148320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偶函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228480" y="2275560"/>
            <a:ext cx="13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奇函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973080" y="148428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973080" y="23493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900000" y="3429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证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8" name=""/>
              <p:cNvSpPr txBox="1"/>
              <p:nvPr/>
            </p:nvSpPr>
            <p:spPr>
              <a:xfrm>
                <a:off x="2411280" y="3357720"/>
                <a:ext cx="475308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设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9" name=""/>
              <p:cNvSpPr txBox="1"/>
              <p:nvPr/>
            </p:nvSpPr>
            <p:spPr>
              <a:xfrm>
                <a:off x="4495680" y="3270240"/>
                <a:ext cx="1526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0" name=""/>
              <p:cNvSpPr txBox="1"/>
              <p:nvPr/>
            </p:nvSpPr>
            <p:spPr>
              <a:xfrm>
                <a:off x="1763640" y="4076640"/>
                <a:ext cx="59770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1" name=""/>
              <p:cNvSpPr txBox="1"/>
              <p:nvPr/>
            </p:nvSpPr>
            <p:spPr>
              <a:xfrm>
                <a:off x="2641680" y="4849920"/>
                <a:ext cx="4033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设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2" name=""/>
              <p:cNvSpPr txBox="1"/>
              <p:nvPr/>
            </p:nvSpPr>
            <p:spPr>
              <a:xfrm>
                <a:off x="2124000" y="5516640"/>
                <a:ext cx="540072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3" name="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偶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奇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9144000" cy="263700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8360" y="476280"/>
            <a:ext cx="81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476360" y="549360"/>
                <a:ext cx="173988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708360" y="549360"/>
                <a:ext cx="1440000" cy="36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5219640" y="98100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5796000" y="549360"/>
                <a:ext cx="93492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468360" y="1413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1484280"/>
            <a:ext cx="720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116000" y="1484280"/>
                <a:ext cx="6732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1835280" y="1413000"/>
            <a:ext cx="66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定义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的偶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且在             内为减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580000" y="1484280"/>
                <a:ext cx="8762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755640" y="20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                                          从小到大用不等号连结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258920" y="2133720"/>
                <a:ext cx="927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268360" y="2060640"/>
                <a:ext cx="1117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564000" y="1916280"/>
                <a:ext cx="78732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900000" y="3429000"/>
            <a:ext cx="626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2000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2050920" y="2637000"/>
                <a:ext cx="314964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-900000" y="3573360"/>
            <a:ext cx="532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求下列不等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547640" y="4149720"/>
                <a:ext cx="100836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900000" y="422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0360" y="422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788000" y="4221000"/>
                <a:ext cx="122400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826920" y="522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1403280" y="5157720"/>
                <a:ext cx="21589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4932360" y="5157720"/>
                <a:ext cx="15829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9" name=""/>
          <p:cNvSpPr/>
          <p:nvPr/>
        </p:nvSpPr>
        <p:spPr>
          <a:xfrm>
            <a:off x="4211640" y="5157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835280" y="2637000"/>
                <a:ext cx="40320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&lt;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sSup>
                                <m:e>
                                  <m:r>
                                    <m:t xml:space="preserve">)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⇔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≠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979640" y="4221000"/>
                <a:ext cx="446400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得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4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≠</m:t>
                              </m:r>
                              <m:r>
                                <m:t xml:space="preserve">2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r>
                      <m:t xml:space="preserve">0,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2,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9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1835280" y="260280"/>
                <a:ext cx="30240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r>
                      <m:t xml:space="preserve">9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763640" y="1413000"/>
                <a:ext cx="12956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971640" y="1268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132000" y="1413000"/>
                <a:ext cx="39610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&lt;</m:t>
                    </m:r>
                    <m:r>
                      <m:t xml:space="preserve">7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900000" y="256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1640" y="333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189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285264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4508640"/>
            <a:ext cx="9144000" cy="234936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765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684360" y="692280"/>
                <a:ext cx="23749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&lt;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3276720" y="83664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            ，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为常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564000" y="83664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643280" y="836640"/>
                <a:ext cx="792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651640" y="765000"/>
                <a:ext cx="417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42920" y="1700280"/>
                <a:ext cx="36036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1547640" y="1700280"/>
                <a:ext cx="79236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2124000" y="1628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原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132000" y="1773360"/>
                <a:ext cx="3603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635280" y="1557360"/>
                <a:ext cx="2016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1476360" y="2276640"/>
                <a:ext cx="475308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δ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∵</m:t>
                    </m:r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476360" y="3141720"/>
                <a:ext cx="345600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476360" y="4292640"/>
                <a:ext cx="34560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(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δ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8" name=""/>
          <p:cNvGrpSpPr/>
          <p:nvPr/>
        </p:nvGrpSpPr>
        <p:grpSpPr>
          <a:xfrm>
            <a:off x="324000" y="1557360"/>
            <a:ext cx="647280" cy="503280"/>
            <a:chOff x="324000" y="1557360"/>
            <a:chExt cx="647280" cy="503280"/>
          </a:xfrm>
        </p:grpSpPr>
        <p:sp>
          <p:nvSpPr>
            <p:cNvPr id="269" name=""/>
            <p:cNvSpPr/>
            <p:nvPr/>
          </p:nvSpPr>
          <p:spPr>
            <a:xfrm>
              <a:off x="324000" y="1557360"/>
              <a:ext cx="429120" cy="503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1200" y="1566360"/>
              <a:ext cx="64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539640" y="404640"/>
            <a:ext cx="6480000" cy="2372040"/>
            <a:chOff x="539640" y="404640"/>
            <a:chExt cx="6480000" cy="2372040"/>
          </a:xfrm>
        </p:grpSpPr>
        <p:sp>
          <p:nvSpPr>
            <p:cNvPr id="272" name=""/>
            <p:cNvSpPr/>
            <p:nvPr/>
          </p:nvSpPr>
          <p:spPr>
            <a:xfrm>
              <a:off x="539640" y="404640"/>
              <a:ext cx="86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58560" y="404640"/>
              <a:ext cx="29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求下列函数的定义域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71280" y="1125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1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787640" y="1125360"/>
              <a:ext cx="100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2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6" name=""/>
                <p:cNvSpPr txBox="1"/>
                <p:nvPr/>
              </p:nvSpPr>
              <p:spPr>
                <a:xfrm>
                  <a:off x="5508360" y="981000"/>
                  <a:ext cx="151128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7" name=""/>
            <p:cNvSpPr/>
            <p:nvPr/>
          </p:nvSpPr>
          <p:spPr>
            <a:xfrm>
              <a:off x="971280" y="2133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3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1908000" y="1989000"/>
                  <a:ext cx="2730240" cy="787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x</m:t>
                          </m:r>
                        </m:e>
                      </m:rad>
                      <m:r>
                        <m:t xml:space="preserve">+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−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79" name=""/>
            <p:cNvSpPr/>
            <p:nvPr/>
          </p:nvSpPr>
          <p:spPr>
            <a:xfrm>
              <a:off x="4787640" y="213372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4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5579640" y="1917720"/>
                  <a:ext cx="1384560" cy="77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  <m:r>
                                <m:t xml:space="preserve">+</m:t>
                              </m:r>
                              <m:r>
                                <m:t xml:space="preserve">x</m:t>
                              </m:r>
                            </m:num>
                            <m:den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</m:den>
                          </m:f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1979280" y="1125360"/>
                  <a:ext cx="1584360" cy="53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9</m:t>
                          </m:r>
                          <m:r>
                            <m:t xml:space="preserve">−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2" name=""/>
          <p:cNvSpPr/>
          <p:nvPr/>
        </p:nvSpPr>
        <p:spPr>
          <a:xfrm>
            <a:off x="539640" y="3213000"/>
            <a:ext cx="79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 (1)                    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763640" y="3213000"/>
                <a:ext cx="12445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492360" y="3284640"/>
                <a:ext cx="1689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1116000" y="4005360"/>
            <a:ext cx="71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763640" y="4005360"/>
                <a:ext cx="12319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3132000" y="4076640"/>
                <a:ext cx="17654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1763640" y="4724280"/>
                <a:ext cx="6408720" cy="16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≥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g</m:t>
                              </m:r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≥</m:t>
                              </m:r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≠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2,0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0,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1116000" y="5229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9144000" cy="3068640"/>
          </a:xfrm>
          <a:prstGeom prst="rect">
            <a:avLst/>
          </a:prstGeom>
          <a:gradFill rotWithShape="0">
            <a:gsLst>
              <a:gs pos="0">
                <a:srgbClr val="cdedfe"/>
              </a:gs>
              <a:gs pos="100000">
                <a:srgbClr val="66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9716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195640" y="836640"/>
                <a:ext cx="129528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419640" y="105264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708360" y="765000"/>
                <a:ext cx="201600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6012000" y="1052640"/>
                <a:ext cx="2305080" cy="39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916360" y="1916280"/>
                <a:ext cx="503280" cy="29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3780000" y="1916280"/>
                <a:ext cx="5760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860040" y="1843560"/>
            <a:ext cx="17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下列各题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10640" y="1843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14960" y="18435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否表示同一函数？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1547640" y="2565360"/>
                <a:ext cx="302436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755640" y="2565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24922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5364000" y="2492280"/>
                <a:ext cx="3457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07" name=""/>
          <p:cNvSpPr/>
          <p:nvPr/>
        </p:nvSpPr>
        <p:spPr>
          <a:xfrm>
            <a:off x="684360" y="328464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476360" y="3068640"/>
                <a:ext cx="259236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611280" y="4581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476360" y="4581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835280" y="4581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同一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定义域不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16000" y="3789360"/>
            <a:ext cx="78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两要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域和对应法则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者完全相同才是同一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6227640" y="4581360"/>
                <a:ext cx="649440" cy="3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"/>
          <p:cNvSpPr/>
          <p:nvPr/>
        </p:nvSpPr>
        <p:spPr>
          <a:xfrm>
            <a:off x="6804000" y="4508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定义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2340000" y="5013360"/>
                <a:ext cx="647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187280" y="5013360"/>
                <a:ext cx="86364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1979640" y="50133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16360" y="501336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定义域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4572000" y="501336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364000" y="5013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47640" y="5661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124000" y="5661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是同一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4356000" y="5589720"/>
                <a:ext cx="2880000" cy="52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1332000" y="6165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两个函数的函数关系不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5:12:56Z</dcterms:created>
  <dc:creator>gmh</dc:creator>
  <dc:description/>
  <dc:language>en-US</dc:language>
  <cp:lastModifiedBy>YlmF</cp:lastModifiedBy>
  <dcterms:modified xsi:type="dcterms:W3CDTF">2007-12-03T08:01:23Z</dcterms:modified>
  <cp:revision>47</cp:revision>
  <dc:subject/>
  <dc:title>幻灯片 1</dc:title>
</cp:coreProperties>
</file>